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67F-EED0-49BA-9F27-DD8D9E8C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7B8-1A1B-4D75-8806-7DCBC36C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BE1-D908-47AF-87D9-BF5ADFCE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3F7-A5D1-40AB-928B-CD7E1F9D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68A-D807-4FB4-801E-BE8AF226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CFD2-A4E7-40C1-A846-067AD8F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4386-C884-4B93-8380-C10DECF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C7BF-7737-48E3-AEDB-D86DD55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3086-251C-4AE7-A4C3-D3B3EC9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A418-2694-48F2-911B-FD4AFB2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122B-9EF7-4B10-8751-45C622A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081-8ACA-4F28-898B-9EFD8D4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D92-7FA4-4277-A4DE-DDFF8EA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6540-153E-423B-A0D0-5787525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774-8F90-435A-B65F-4D435B2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0A51-638B-4AD0-ABF1-AEFD1742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5F3F-2BB1-4DD2-BDD3-74584ECA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663C-6553-4B99-A4BE-9E036FFF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F792-D726-47A2-9A18-E750877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2819-5286-40D7-9C0E-3C4462D7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003D-F1B5-4923-AC55-0353461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374C-F803-4E90-A9FC-66330FA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E21-DD21-4D94-83DD-53361AC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84E2-C94D-4ADB-B0DB-E0098A58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7104-0DA1-4A84-A779-20DF323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558A-FE3F-4D44-8838-99755BFB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9A92-A36C-481E-913C-5AC18EB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3405-9686-43FD-82DE-5E827230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9846-C84C-4CA8-A61B-756781F3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B2B9-5F9F-4603-9543-65DB4F38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AC7F-16B0-4063-8EBB-A8C73C14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FE55-F455-42D9-9329-E6B39883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4357-116D-4B12-A86A-6DE06D67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6CC-3A70-4545-9374-231E969E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2700-FBB7-45DB-9C59-B5603C3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3974-E018-42BE-B7EF-440B046F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29D4-736D-4B9E-A4E7-E0553BC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CA27-5237-436B-9BDA-422EA09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DBB8-7012-4CB9-9567-BFCCC74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5909-9E62-4200-B101-62048EC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8177-D57A-467F-BF88-455CA5E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7D15-00B7-4FC4-AC24-B2BD4E08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2D40-638D-486E-A59C-7F3D8F14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A94-24D7-4CBF-8A30-13669F2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4DD-308A-4DEF-AE8A-38A3E7A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E05-05F4-4CC7-AB8A-9BD2AF0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B93-7352-4084-A567-4C34F13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611-B199-449C-BD24-AA9D622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3CDB-7179-42C1-916F-FD03665A3B4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91E-47C3-44C4-8BCE-49FDAC1AC971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6C9-3C79-489C-BDB7-90A443BFAB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7E41-8602-4F9E-A3D4-E73746EAC15B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A54F-F1BB-49C4-B523-46F82D6A04B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F47-EA2C-4B0C-96CE-2FE2EB07E000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C15-5A10-4A33-AE40-D8D073252416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576-94A0-4956-966C-0D6B10FD5E00}" type="slidenum">
              <a:rPr b="0" lang="en-US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1213920"/>
            <a:ext cx="8429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Әрекеттесуші массалар заңы. Вант-Гофф ережесі. Қайтымды реакциялар. Т</a:t>
            </a:r>
            <a:r>
              <a:rPr b="1" lang="kk-KZ" sz="3600" spc="-1" strike="noStrike">
                <a:solidFill>
                  <a:srgbClr val="ff0000"/>
                </a:solidFill>
                <a:latin typeface="Arial Narrow"/>
              </a:rPr>
              <a:t>епе-теңдік</a:t>
            </a:r>
            <a:r>
              <a:rPr b="0" lang="kk-KZ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3600" spc="-1" strike="noStrike">
                <a:solidFill>
                  <a:srgbClr val="ff0000"/>
                </a:solidFill>
                <a:latin typeface="Arial"/>
              </a:rPr>
              <a:t>константасы. Ле-Шателье принципі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EFD-51B0-4878-A2C2-9C56B6A39DBD}" type="slidenum">
              <a:t>1</a:t>
            </a:fld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Бірдей жағдайда қарама-қарсы екі бағытта жүретін реакциялар қайтымды реакциялар деп ата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+ 4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3Fe + 4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Солдан оңға қарай жазылған реакция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тура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, ал оңнан солға қарай жазылған реакция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кері реакция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деп ата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B38-894A-4CF3-A55B-0451C917D23A}" type="slidenum">
              <a:t>10</a:t>
            </a:fld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764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Қайтымды реакцияларда, тура және кері реакциялардың жылдамдықтары теңескен күйді 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деп атайды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 кезінде ракциялар тоқтап қалмайды, тек қарама-қарсы реакциялардың жылдамдықтары ғана теңесетін процесс. Сондықтан оны жылжымалы немесе динамикалық тепе-теңдік деп атайды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9CE-A4B9-4D68-A4EE-B7D6047AB6A9}" type="slidenum">
              <a:t>11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7"/>
          <p:cNvSpPr/>
          <p:nvPr/>
        </p:nvSpPr>
        <p:spPr>
          <a:xfrm>
            <a:off x="568440" y="357120"/>
            <a:ext cx="7848360" cy="60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1f2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724280" y="2666880"/>
            <a:ext cx="1800" cy="2239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28"/>
          <p:cNvGrpSpPr/>
          <p:nvPr/>
        </p:nvGrpSpPr>
        <p:grpSpPr>
          <a:xfrm>
            <a:off x="587520" y="804600"/>
            <a:ext cx="7733880" cy="5158080"/>
            <a:chOff x="587520" y="804600"/>
            <a:chExt cx="7733880" cy="5158080"/>
          </a:xfrm>
        </p:grpSpPr>
        <p:sp>
          <p:nvSpPr>
            <p:cNvPr id="190" name="Text Box 19"/>
            <p:cNvSpPr/>
            <p:nvPr/>
          </p:nvSpPr>
          <p:spPr>
            <a:xfrm>
              <a:off x="3836880" y="5065560"/>
              <a:ext cx="246492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епе-теңдік мерзімі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24640" y="4840200"/>
              <a:ext cx="8967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t, c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587520" y="990720"/>
              <a:ext cx="201744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V </a:t>
              </a:r>
              <a:r>
                <a:rPr b="1" lang="ru-RU" sz="1600" spc="-1" strike="noStrike">
                  <a:solidFill>
                    <a:srgbClr val="000000"/>
                  </a:solidFill>
                  <a:latin typeface="Bodoni MT"/>
                </a:rPr>
                <a:t>моль/л с</a:t>
              </a: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 flipV="1">
              <a:off x="2041560" y="804600"/>
              <a:ext cx="0" cy="40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2487600" y="1254240"/>
              <a:ext cx="179496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ур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2268360" y="1028880"/>
              <a:ext cx="4294080" cy="1645920"/>
            </a:xfrm>
            <a:custGeom>
              <a:avLst/>
              <a:gdLst>
                <a:gd name="textAreaLeft" fmla="*/ 0 w 4294080"/>
                <a:gd name="textAreaRight" fmla="*/ 4294440 w 429408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3450" h="1500">
                  <a:moveTo>
                    <a:pt x="30" y="0"/>
                  </a:moveTo>
                  <a:cubicBezTo>
                    <a:pt x="15" y="510"/>
                    <a:pt x="0" y="1020"/>
                    <a:pt x="570" y="1260"/>
                  </a:cubicBezTo>
                  <a:cubicBezTo>
                    <a:pt x="1140" y="1500"/>
                    <a:pt x="2295" y="1470"/>
                    <a:pt x="3450" y="144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2566800" y="3276720"/>
              <a:ext cx="224280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ері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 flipV="1">
              <a:off x="2268360" y="2597760"/>
              <a:ext cx="4294080" cy="1873080"/>
            </a:xfrm>
            <a:custGeom>
              <a:avLst/>
              <a:gdLst>
                <a:gd name="textAreaLeft" fmla="*/ 0 w 4294080"/>
                <a:gd name="textAreaRight" fmla="*/ 4294440 w 4294080"/>
                <a:gd name="textAreaTop" fmla="*/ -360 h 1873080"/>
                <a:gd name="textAreaBottom" fmla="*/ 1873080 h 1873080"/>
              </a:gdLst>
              <a:ahLst/>
              <a:rect l="textAreaLeft" t="textAreaTop" r="textAreaRight" b="textAreaBottom"/>
              <a:pathLst>
                <a:path w="3450" h="1500">
                  <a:moveTo>
                    <a:pt x="30" y="0"/>
                  </a:moveTo>
                  <a:cubicBezTo>
                    <a:pt x="15" y="510"/>
                    <a:pt x="0" y="1020"/>
                    <a:pt x="570" y="1260"/>
                  </a:cubicBezTo>
                  <a:cubicBezTo>
                    <a:pt x="1140" y="1500"/>
                    <a:pt x="2295" y="1470"/>
                    <a:pt x="3450" y="144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2041560" y="4840200"/>
              <a:ext cx="60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237-F242-4B2A-A191-FCA7FEB6DA61}" type="slidenum">
              <a:t>12</a:t>
            </a:fld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33336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Реакцияға қатысатын заттардың біреуінің концентрациясын аз ғана өзгертсе тепе-теңдік бұзылып, реакцияға қатысатын басқа заттардың барлығының концентрациялары өзгере бастай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Тепе-теңдіктің бұзылуынан реакцияға қатысушы заттардың концентрацияларының өзгеруін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тепе-теңдіктің ығысуы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деп атай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569-12A8-4E7E-BD0A-076FD0765527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62064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Мысалы: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 + Б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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В + 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K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K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заттардың концентрациялары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тура реакцияның, а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кері реакцияның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                     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жылдамдықтары.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C3-9804-4E9D-8710-FCD707E957F1}" type="slidenum">
              <a:t>14</a:t>
            </a:fld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7921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Химиялық тепе-теңдік кезінде тура және кері реакциялардың жылдамдықтары теңесетіндіктен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болады, яғни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= K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0" y="1916280"/>
                <a:ext cx="38163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В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Г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А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Б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0" y="4149720"/>
                <a:ext cx="23036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В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Г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А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Б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4"/>
          <p:cNvSpPr/>
          <p:nvPr/>
        </p:nvSpPr>
        <p:spPr>
          <a:xfrm>
            <a:off x="611280" y="3284640"/>
            <a:ext cx="7777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және К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– тұрақты шамалар, сондықтан олардың қатынасы да тұрақты шама болып табылады. Оны К әрпімен белгілеп, </a:t>
            </a:r>
            <a:r>
              <a:rPr b="1" i="1" lang="kk-KZ" sz="2000" spc="-1" strike="noStrike">
                <a:solidFill>
                  <a:srgbClr val="ffffff"/>
                </a:solidFill>
                <a:latin typeface="Verdana"/>
              </a:rPr>
              <a:t>тепе-теңдік константасы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деп атай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Химиялық тепе-теңдік тұрақты жағдайда ғана қалпында бола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4BA-5A9B-4564-9A2B-E9F5F8F9CE63}" type="slidenum">
              <a:t>15</a:t>
            </a:fld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620640"/>
            <a:ext cx="7705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Концентрация, температура және қысымды өзгертсе тепе-теңдік бұзылып, тура немесе кері реакцияның бағытына қарай ығыс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Концентрацияны өзгерткеннен химиялық тепе-теңдіктің ығысу тәртібі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Ле-Шателье принципіне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бағын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FCE-0348-4573-9755-DF028EA65AF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764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ff"/>
                </a:solidFill>
                <a:latin typeface="Arial Narrow"/>
              </a:rPr>
              <a:t>Ле-Шателье принципі:</a:t>
            </a: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Химиялық тепе-теңдік күйіне келіп тұрған жүйе жағдайының (концентрация, температура, қысым) біреуін өзгерту, тепе-теңдікті сол өзгертуге қарсы әрекет туғызатын реакция бағытына қарай ығыстырады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AAA-1C9F-48B8-8663-29DEE5A11B21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01800" y="1052640"/>
            <a:ext cx="7415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Температура көтерілгенде тепе-теңдік эндотермиялық (жылу сіңіре жүретін) реакция бағытына қарай, ал температураны төмендеткенде экзотермиялық (жылу шығара жүретін) реакция бағытына қарай ығысады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8B2-9A17-4E95-AEC8-F6CBCF20A388}" type="slidenum">
              <a:t>18</a:t>
            </a:fld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148428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1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600" spc="-1" strike="noStrike">
                <a:solidFill>
                  <a:srgbClr val="ffffff"/>
                </a:solidFill>
                <a:latin typeface="Arial Narrow"/>
              </a:rPr>
              <a:t>Қысымның жоғарлауы газ күйіндегі заттар мольдерінің жалпы саны азаятын бағытқа, яғни қысымды төмендететін бағытқа қарай ығысуына әкеледі.</a:t>
            </a:r>
            <a:endParaRPr b="0" lang="en-US" sz="4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520-4747-4C00-B69A-2772F8FA5B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ЖОСПАР: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125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Гомогенді және гетерогенді реакциялар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Әсер етуші массалар заңы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реакцияның жылдамдығына әсер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етет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факторлар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реакцияның жылдамдығын есептеу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Ле-Шателье принципі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C99-B501-426D-A2FB-FAEE75279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475920"/>
            <a:ext cx="835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Мысалы: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епе-теңдік қай бағытқа қарай ығысады, егер тұрақты температурада газ қоспасының көлемін кішірейту арқылы қысымды жоғарлатса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CO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Реакцияның тура бағытта жүруі газдардың жалпы моль сандарын азайтуға әкеліп соғады, яғни жүйедегі қысымның азайуына әкеледі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3C7-951B-480F-B9A8-9741900CDF4C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б) Н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2(г)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2(г)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2HI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Реакция жүргенде газдардың моль сандары өзгермейді, демек қысымның өзгеруіне әкелмейді. Бұл жағдайда қысымның өзгеруі тепе-теңдіктің ығысуына әкелмейді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F42-7C8F-40BE-8C7A-A086E07DFE8A}" type="slidenum">
              <a:t>21</a:t>
            </a:fld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476280"/>
            <a:ext cx="84978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Химиялық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кциялар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омоген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және </a:t>
            </a: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етероген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болып бөлінед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омогенді реакция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реагенттердің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расында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бүкіл көлемде жүреді, яғни реагенттердің арасында беттік бөліну болмай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(ер-ді)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(ер-ді)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сұйық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ерітін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Verdana"/>
              </a:rPr>
              <a:t>Гетерогенді химиялық реакция</a:t>
            </a: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 реагентердің арасында фазалардың беттік  бөліну а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лығында жүред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қатты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 ер-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газ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ер-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35E-A672-4FF7-AB4D-ECC40ABBA66B}" type="slidenum">
              <a:t>3</a:t>
            </a:fld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4400" y="549360"/>
            <a:ext cx="87692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dc9e1f"/>
                </a:solidFill>
                <a:latin typeface="Arial Narrow"/>
              </a:rPr>
              <a:t>Гомогенді реакциялардың жылдамдығы</a:t>
            </a: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жүйенің көлем бірлігінде және кесімді уақытта реакцияға түскен немесе рекция нәтижесінде түзілген заттардың мөлшерімен өлшенеді.</a:t>
            </a:r>
            <a:br>
              <a:rPr sz="3200"/>
            </a:b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dc9e1f"/>
                </a:solidFill>
                <a:latin typeface="Arial Narrow"/>
              </a:rPr>
              <a:t>Гетерогенді реакцияның жылдамдығы</a:t>
            </a: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фазалар айырығының аудан беті бірлігінде және кесімді уақытта реакцияға түскен немесе рекция нәтижесінде түзілген заттардың мөлшерімен өлшенеді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1B1-484C-45A2-87AB-16700D5E60B3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114800" y="35370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Әсер етуші массалар заңы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: Тұрақты температурада химиялық реакцияның жылдамдығы әрекеттесуші заттардың концентрацияларының көбейтіндісіне тура пропорцинал.  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аА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вВ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= mM + nN</a:t>
            </a:r>
            <a:br>
              <a:rPr sz="2800"/>
            </a:b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типті реакция үшін әсер етуші массалар заңы былай өрнектеледі: </a:t>
            </a:r>
            <a:br>
              <a:rPr sz="2800"/>
            </a:b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немес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54000" y="5013360"/>
                <a:ext cx="3130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В</m:t>
                        </m:r>
                      </m:sub>
                      <m:sup>
                        <m:r>
                          <m:t xml:space="preserve">в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767-7B23-47EB-A2AB-B8F8ACBF3BF1}" type="slidenum">
              <a:t>5</a:t>
            </a:fld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5280" y="333360"/>
            <a:ext cx="8228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Гетерогенді реакцияларда қатты фазадағы заттар концентрациясы әдетте реакция барысында өзгермейді, сондықтан әсер еруші массалар заңының теңдеуіне кірмейді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Мысалы, келесі реакциялар үшін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 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а)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(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г)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+ 3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= K [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] [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]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Narro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 Narrow"/>
              </a:rPr>
              <a:t>б)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a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 (k)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Ca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k)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+ 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32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0000"/>
                </a:solidFill>
                <a:latin typeface="Arial Narrow"/>
              </a:rPr>
              <a:t>=</a:t>
            </a:r>
            <a:r>
              <a:rPr b="0" lang="kk-KZ" sz="4000" spc="-1" strike="noStrike" baseline="-25000">
                <a:solidFill>
                  <a:srgbClr val="ff0000"/>
                </a:solidFill>
                <a:latin typeface="Arial Narrow"/>
              </a:rPr>
              <a:t> К, яғни бұл жағдайда белгілі бір температурада реакция жылдамдығы тұрақты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6A9-D58F-4E3D-B88E-43FBE8FAE2DD}" type="slidenum">
              <a:t>6</a:t>
            </a:fld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Arial Narrow"/>
              </a:rPr>
              <a:t>РЕАКЦИЯ ЖЫЛДАМДЫҒЫНА ӘСЕР ЕТЕТІН ФАКТОРЛАР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699920"/>
            <a:ext cx="8964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Әрекеттесуші заттардың табиғаты,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әрекеттесуші заттардың концентрациясы,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температура,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қысым (газдар үшін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катализатор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F80-48A6-4915-B892-D4A2C09C0C12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ысал.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2NO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 (г)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= 2 N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 (г)</a:t>
            </a:r>
            <a:r>
              <a:rPr b="0" lang="kk-KZ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реакциясының жылдамдығы қала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өзгереді, егер реакциялық ыдыстың көлемін 3 есеге азайтатын болс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 u="sng">
                <a:solidFill>
                  <a:srgbClr val="ffffff"/>
                </a:solidFill>
                <a:uFillTx/>
                <a:latin typeface="Times New Roman"/>
              </a:rPr>
              <a:t>Шешуі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Көлемі өзгергенше реакция жылдамдығы келесі теңдеумен өрнектеледі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K [NO]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[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өлем азайғандықтан, әрекеттесуші заттардың әрқайсысының концентрациясы үш есе ұлғайады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7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= K ( 3[NO])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( 3 [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]) = 27 K [NO]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[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және </a:t>
            </a:r>
            <a:r>
              <a:rPr b="0" lang="kk-KZ" sz="28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өрнектерін салыстыра отырып, реакция жылдамдығының 27 есе көбейетітін байқауға бо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F13-916F-410E-95EA-DEFD41F87A90}" type="slidenum">
              <a:t>8</a:t>
            </a:fld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 Narrow"/>
              </a:rPr>
              <a:t>РЕАКЦИЯ ЖЫЛДАМДЫҒЫНА ТЕМПЕРАТУРАНЫҢ ӘСЕРІ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216320" y="3409920"/>
                <a:ext cx="711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Rectangle 3"/>
          <p:cNvSpPr/>
          <p:nvPr/>
        </p:nvSpPr>
        <p:spPr>
          <a:xfrm>
            <a:off x="611280" y="1916280"/>
            <a:ext cx="79912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dc9e1f"/>
                </a:solidFill>
                <a:latin typeface="Arial"/>
              </a:rPr>
              <a:t>Тәжірибе жүзінде температура әрбір 10</a:t>
            </a:r>
            <a:r>
              <a:rPr b="0" lang="kk-KZ" sz="3200" spc="-1" strike="noStrike" baseline="30000">
                <a:solidFill>
                  <a:srgbClr val="dc9e1f"/>
                </a:solidFill>
                <a:latin typeface="Arial"/>
              </a:rPr>
              <a:t>0</a:t>
            </a:r>
            <a:r>
              <a:rPr b="0" lang="kk-KZ" sz="3200" spc="-1" strike="noStrike">
                <a:solidFill>
                  <a:srgbClr val="dc9e1f"/>
                </a:solidFill>
                <a:latin typeface="Arial"/>
              </a:rPr>
              <a:t>С – қа артқанда реакция жылдамдығы 2 – 4 есе өсетіндігі анықталған. Бұл ереже Вант-Гофф ережесі деп аталады.</a:t>
            </a:r>
            <a:br>
              <a:rPr sz="3200"/>
            </a:br>
            <a:br>
              <a:rPr sz="3200"/>
            </a:br>
            <a:r>
              <a:rPr b="0" lang="kk-KZ" sz="2800" spc="-1" strike="noStrike">
                <a:solidFill>
                  <a:srgbClr val="dc9e1f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BC0-D525-4FCC-BE81-82C23E7BD061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на</dc:creator>
  <dc:description/>
  <dc:language>en-US</dc:language>
  <cp:lastModifiedBy>Student</cp:lastModifiedBy>
  <dcterms:modified xsi:type="dcterms:W3CDTF">2013-05-02T09:21:50Z</dcterms:modified>
  <cp:revision>94</cp:revision>
  <dc:subject/>
  <dc:title>Павлодарский государственный педагогический институт</dc:title>
</cp:coreProperties>
</file>